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928-31AB-48E8-B260-7BDDA4B2D6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1FF9-C3EA-43E5-838D-3FEE09BBF9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25E-C411-4F78-B037-CC20D15C31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6F3-5843-4FDC-B1E1-FC6D43D267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FF5E-647C-4114-B937-13AFDF9EAE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B55-4615-42B9-93BD-89916C785C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25560" y="4638600"/>
            <a:ext cx="50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804-642F-498A-8E96-F1215551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468-FD6C-485B-BB10-17B5551D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58E-A056-41E4-BC00-361E4F2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205-B278-405A-BB95-AE612502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8F8-3665-4E1A-B097-E773D9CF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4D9-7DBF-483D-8966-17103066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B24-969A-420B-A17F-6578EFB6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56A-4645-4C76-8A66-30B2BB7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47D-DFF5-4176-AB53-3F7D6D1D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233-5B51-4624-9DC5-34A8FC1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399-0368-4B3B-88C4-193787DC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496-F80D-43DF-95C4-DFBF9647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C1EF-6831-4074-9011-0B36B091C0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"/>
              </a:rPr>
              <a:t>INTRODUCTION TO HUMAN RIGHTS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SUMMARY OF CONCEP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04040"/>
                </a:solidFill>
                <a:latin typeface="Calibri"/>
              </a:rPr>
              <a:t>DEFINITION OF HUMAN RIGH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6072120"/>
            <a:ext cx="9144000" cy="14292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1258920" y="2320920"/>
            <a:ext cx="68421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Human rights may be defin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universal legal guarant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that belong to all human be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that protect individuals and groups from actions and o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</a:rPr>
              <a:t>that affect fundamental human dig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4040"/>
                </a:solidFill>
                <a:latin typeface="Calibri"/>
              </a:rPr>
              <a:t>Source: Office of the High Commissioner for Human Rights (OHC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"/>
              </a:rPr>
              <a:t>HUMAN RIGHTS TRIGGER OBL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4"/>
          <p:cNvGrpSpPr/>
          <p:nvPr/>
        </p:nvGrpSpPr>
        <p:grpSpPr>
          <a:xfrm>
            <a:off x="755640" y="2276280"/>
            <a:ext cx="7643520" cy="3989520"/>
            <a:chOff x="755640" y="2276280"/>
            <a:chExt cx="7643520" cy="3989520"/>
          </a:xfrm>
        </p:grpSpPr>
        <p:sp>
          <p:nvSpPr>
            <p:cNvPr id="61" name="Curved Right Arrow 8"/>
            <p:cNvSpPr/>
            <p:nvPr/>
          </p:nvSpPr>
          <p:spPr>
            <a:xfrm>
              <a:off x="755640" y="2490840"/>
              <a:ext cx="2071800" cy="3530880"/>
            </a:xfrm>
            <a:custGeom>
              <a:avLst/>
              <a:gdLst>
                <a:gd name="textAreaLeft" fmla="*/ 277560 w 2071800"/>
                <a:gd name="textAreaRight" fmla="*/ 1794240 w 2071800"/>
                <a:gd name="textAreaTop" fmla="*/ 688320 h 3530880"/>
                <a:gd name="textAreaBottom" fmla="*/ 2583360 h 35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424" stAng="-5400000" swAng="-5400000"/>
                  <a:lnTo>
                    <a:pt x="0" y="11592"/>
                  </a:lnTo>
                  <a:arcTo wR="21600" hR="8424" stAng="10800000" swAng="-3389517"/>
                  <a:lnTo>
                    <a:pt x="16200" y="21333"/>
                  </a:lnTo>
                  <a:lnTo>
                    <a:pt x="21600" y="18431"/>
                  </a:lnTo>
                  <a:lnTo>
                    <a:pt x="16200" y="14995"/>
                  </a:lnTo>
                  <a:lnTo>
                    <a:pt x="16200" y="16580"/>
                  </a:lnTo>
                  <a:arcTo wR="21600" hR="8424" stAng="7410483" swAng="3133312"/>
                  <a:lnTo>
                    <a:pt x="385" y="10007"/>
                  </a:lnTo>
                  <a:arcTo wR="21600" hR="8424" stAng="-10543795" swAng="5143795"/>
                  <a:close/>
                </a:path>
                <a:path fill="darkenLess" w="21600" h="21600">
                  <a:moveTo>
                    <a:pt x="21600" y="0"/>
                  </a:moveTo>
                  <a:arcTo wR="21600" hR="8424" stAng="-5400000" swAng="-5400000"/>
                  <a:lnTo>
                    <a:pt x="0" y="8424"/>
                  </a:lnTo>
                  <a:arcTo wR="21600" hR="8424" stAng="10800000" swAng="-256205"/>
                  <a:lnTo>
                    <a:pt x="385" y="10007"/>
                  </a:lnTo>
                  <a:arcTo wR="21600" hR="8424" stAng="-10543795" swAng="5143795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urved Right Arrow 9"/>
            <p:cNvSpPr/>
            <p:nvPr/>
          </p:nvSpPr>
          <p:spPr>
            <a:xfrm rot="10800000">
              <a:off x="6541920" y="2276280"/>
              <a:ext cx="1857240" cy="3529080"/>
            </a:xfrm>
            <a:custGeom>
              <a:avLst/>
              <a:gdLst>
                <a:gd name="textAreaLeft" fmla="*/ 248760 w 1857240"/>
                <a:gd name="textAreaRight" fmla="*/ 1608480 w 1857240"/>
                <a:gd name="textAreaTop" fmla="*/ 708120 h 3529080"/>
                <a:gd name="textAreaBottom" fmla="*/ 2588760 h 35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668" stAng="-5400000" swAng="-5400000"/>
                  <a:lnTo>
                    <a:pt x="0" y="11511"/>
                  </a:lnTo>
                  <a:arcTo wR="21600" hR="8668" stAng="10800000" swAng="-3434537"/>
                  <a:lnTo>
                    <a:pt x="16200" y="21325"/>
                  </a:lnTo>
                  <a:lnTo>
                    <a:pt x="21600" y="18758"/>
                  </a:lnTo>
                  <a:lnTo>
                    <a:pt x="16200" y="15640"/>
                  </a:lnTo>
                  <a:lnTo>
                    <a:pt x="16200" y="17061"/>
                  </a:lnTo>
                  <a:arcTo wR="21600" hR="8668" stAng="7365463" swAng="3205532"/>
                  <a:lnTo>
                    <a:pt x="292" y="10090"/>
                  </a:lnTo>
                  <a:arcTo wR="21600" hR="8668" stAng="-10570996" swAng="5170996"/>
                  <a:close/>
                </a:path>
                <a:path fill="darkenLess" w="21600" h="21600">
                  <a:moveTo>
                    <a:pt x="21600" y="0"/>
                  </a:moveTo>
                  <a:arcTo wR="21600" hR="8668" stAng="-5400000" swAng="-5400000"/>
                  <a:lnTo>
                    <a:pt x="0" y="8668"/>
                  </a:lnTo>
                  <a:arcTo wR="21600" hR="8668" stAng="10800000" swAng="-229004"/>
                  <a:lnTo>
                    <a:pt x="292" y="10090"/>
                  </a:lnTo>
                  <a:arcTo wR="21600" hR="8668" stAng="-10570996" swAng="5170996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8"/>
            <p:cNvSpPr/>
            <p:nvPr/>
          </p:nvSpPr>
          <p:spPr>
            <a:xfrm>
              <a:off x="3060000" y="2492640"/>
              <a:ext cx="32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Calibri"/>
                </a:rPr>
                <a:t>RIGHTS-HOLD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843640" y="5229360"/>
              <a:ext cx="345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Calibri"/>
                </a:rPr>
                <a:t>DUTY-BEARE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3131640" y="3069000"/>
              <a:ext cx="331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claim their rights from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3"/>
            <p:cNvSpPr/>
            <p:nvPr/>
          </p:nvSpPr>
          <p:spPr>
            <a:xfrm>
              <a:off x="2987640" y="580608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040"/>
                  </a:solidFill>
                  <a:latin typeface="Calibri"/>
                </a:rPr>
                <a:t>fulfill their obligations to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404040"/>
                </a:solidFill>
                <a:latin typeface="Calibri"/>
              </a:rPr>
              <a:t>HUMAN RIGHTS OBL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32000" y="1703520"/>
            <a:ext cx="64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404040"/>
                </a:solidFill>
                <a:latin typeface="Calibri"/>
              </a:rPr>
              <a:t>IMPORTANT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785880"/>
            <a:ext cx="9144000" cy="46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G:\Communications\Co-branding\ACT_logotypes (from Happy)\.ptmp84275\ACT_logotypmapp\actalliance_eng\Office\Actalliance_Office.png"/>
          <p:cNvPicPr/>
          <p:nvPr/>
        </p:nvPicPr>
        <p:blipFill>
          <a:blip r:embed="rId1"/>
          <a:stretch/>
        </p:blipFill>
        <p:spPr>
          <a:xfrm>
            <a:off x="6500880" y="214200"/>
            <a:ext cx="2384280" cy="357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042920" y="2276640"/>
            <a:ext cx="698508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Univers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Inalie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Indivisibility and inter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Participation and 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Accountability and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Non-discrimination and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85840" y="1557000"/>
            <a:ext cx="85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ug7jeffrey18312c"/>
          <p:cNvPicPr/>
          <p:nvPr/>
        </p:nvPicPr>
        <p:blipFill>
          <a:blip r:embed="rId1"/>
          <a:srcRect l="0" t="9758" r="0" b="22855"/>
          <a:stretch/>
        </p:blipFill>
        <p:spPr>
          <a:xfrm>
            <a:off x="0" y="-127080"/>
            <a:ext cx="9144000" cy="161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Actalliance_Office"/>
          <p:cNvPicPr/>
          <p:nvPr/>
        </p:nvPicPr>
        <p:blipFill>
          <a:blip r:embed="rId2"/>
          <a:stretch/>
        </p:blipFill>
        <p:spPr>
          <a:xfrm>
            <a:off x="6227640" y="6165720"/>
            <a:ext cx="2664000" cy="398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835280" y="2421000"/>
            <a:ext cx="56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Calibri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040"/>
                </a:solidFill>
                <a:latin typeface="Calibri"/>
              </a:rPr>
              <a:t>Questions &amp; Feedback welcom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8:26:31Z</dcterms:created>
  <dc:creator>Sonali Fernando</dc:creator>
  <dc:description/>
  <dc:language>en-US</dc:language>
  <cp:lastModifiedBy>IBT</cp:lastModifiedBy>
  <dcterms:modified xsi:type="dcterms:W3CDTF">2013-06-16T20:18:20Z</dcterms:modified>
  <cp:revision>21</cp:revision>
  <dc:subject/>
  <dc:title>text</dc:title>
</cp:coreProperties>
</file>