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9E0-DB68-49B3-BF17-CC935FA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705-0C83-4B99-915A-2C47BF17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4FD1C-C350-4B29-89E5-183E447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1EEC-1733-4795-A5C8-E56EC987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1DE4-498E-4B46-A978-4967421A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5FD06-FF1B-4EDA-97E3-4580FC0B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A2C0-AB38-4453-AD70-C5600E9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EF859-D869-4828-9865-58463B2F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593B4-BA3C-4C54-A79F-E8AF820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A43BC-5A0C-4B5C-9147-0404A9C0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BB18-2117-462F-A49E-BEF571C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08F5-ED9A-432E-B198-34EEBEE0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0BC-0EEF-4DF1-88A1-2C463A44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B3EDE-AA71-49C2-BD81-7F879AD4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6B30E-9988-4797-AAC8-12B58CF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43340-BAA5-4F18-A570-AB0D1DD1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4EB2-B680-49AA-BC3C-709B4957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1336-F306-47CD-8724-69B2218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7E8E5-F1E2-4EFF-A8AB-306F8CD5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4B0DB-D8BA-4DFD-A93E-9D2A43F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AAD1D-8C34-47E3-8DAC-0FEF57FF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78D33-1A32-4857-9CC4-6AF7B79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2FAF9-6DE7-4517-8029-8498FBC9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50A-4262-40B9-A1CD-36C068D1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93B6C-5B52-4C90-A982-8E59ABE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B4C9-BFB5-4F8B-A003-35537A34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9016B-AAB6-4F92-9237-9D7C1648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166B2-AC42-4411-8361-D914F54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DA6F-D999-4F5E-AE82-8BDE105C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48E5-EFEE-4122-B55E-35C5530F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27F8-B88F-42EC-802E-55A3263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2FDB7-0CCF-4C99-8D8B-FCCB1BC4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FA051-8424-4771-9044-911D8F4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21341-8FD9-4542-A9E3-1517826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1CCA-4BA1-49D7-9DC1-484E55D4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E3DE2-BAD4-4079-ABC6-E924096A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DC5B7-D728-4D01-92A8-D18D902E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D9CF-78A2-4B97-B80E-D0BBB02E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7B8C2-AEE6-4D4A-9A30-DDA504BF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DCE49-C7FD-4EA3-8F98-14DCD26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E1238-F784-46A9-9024-F2DE9AE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394E7-78C3-4517-BEB7-63D322B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E4692-3EAE-493A-8D7E-63F7046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6AB92-3A00-48E9-A963-9FEAFC3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CF0A0-93C9-43C5-B54E-AD44B94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4353-F0E1-44BC-B544-16EB99AC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9DEE6-F10F-4FB4-A75D-B60613E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36436-EBA1-4C56-82CA-02B0352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FC4E3-2671-48FD-BD49-F7C95A4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B2252-4029-4E4B-B5D8-9DE9266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12D20-C4BF-486D-8D71-A9B201D5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D80C-BBAB-407B-83BB-048E5A2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8A4C-6866-484F-8A0C-A7841D5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D004-3DDF-4C9F-83BF-F1833B2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2AC1-3AE1-4D88-8E3D-23CE3AFE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8CE1-4A81-406E-AFBC-17DC5CD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E8D-0FBE-4C6D-A0D8-EA192000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2872-D6C9-477A-9327-0CBECC2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AB6-4E80-4219-8182-152B9A3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7FA0-4068-4294-8936-FA0A139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FFA1-4F04-42CD-A697-BDCF2011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647-1AEA-40A9-8D2C-F9C74832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BBE2-2B88-4D35-954C-7DD301CE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B614-83B8-4684-AC99-48F7A078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B5CB-1440-481C-8A6A-075E9FA5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C763-095F-40F5-B4D3-2C292FC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E03B-80FE-4DBA-931D-EB7BE98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9E-45F7-4B48-8A58-F807F539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C9CA-1ADC-4406-A041-4C7F2146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5DDD-AB92-4EFA-83FD-F2B329B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3459-92AE-45C1-9402-5CCAFBF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142F-22CE-4F05-B758-32133E4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15A6-1557-4C05-BE7D-F3BE5FEF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1003-97D4-4024-9D3D-344D19E2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0B11-F4E0-438C-8F2F-40CFC11A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9A1A-489D-4917-9649-70A9D2B5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4FD7-D58A-446A-AF00-076FA31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F4E7-9BB3-45A7-9F9F-70F165CB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C2B-B89D-413B-83E0-BF9C19E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932F-6FA6-4B24-A355-94F61D2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F866-8308-4D85-A28C-2D5336A8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50F2-158B-4416-8BCB-6271AE4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9824-7D48-4ECD-9126-EECC5509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C423-BB8E-4E96-9C47-7F4EA29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E4F1-EBC6-405C-8FAE-922ED7A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FA3A-62D1-49B9-8BB0-F469ED57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2DFE-8E36-469F-BF8B-769CE188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3D68-4715-4497-8EBA-19CCFD7B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3A2E-4F49-494F-B5F3-1A7A8126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E0E-7D88-4356-B6D0-C40A15F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78F12-CDC5-4133-86F5-344C191D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3572-89AC-40D6-90B0-90481FB6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970E-96B5-4D0F-B7D2-A535FF7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0224-3842-42CC-9CF9-E51AE58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AB6A-997A-4E82-9609-275513C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0C108-6D4E-4FBE-8114-A69F9EB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FD02-DF48-4CAC-B213-E1EA5B9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2C87-9A5A-4C77-9673-1F6E0F8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C6A3-505B-473C-B973-8377176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C7CD-ADD1-44D5-B489-3733F7CA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C15-DA45-42F7-A73C-6361228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94FB-47F3-40BD-8C77-2C7F802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78DD-F248-49A1-AD40-99AA9949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CDC97-2688-4C97-93D5-958C56C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665A-689A-4302-A818-7673A2A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B7E4-7067-457D-94A5-98D1E850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1498-3C51-410D-A043-D225BE2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5F4B8-CE23-4025-8374-696C9D0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68AA8-C7B8-4A4A-9B91-A99A080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7DD2-29FC-4968-8DBF-E08E535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8493-9C59-48C8-B47D-35458C9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E53-6015-42C9-A912-EA53E8A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E9D2-C983-4B03-9AC1-8CBE6C1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9814-B1DC-49CB-9362-C84D359D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9EF4-6BEE-4CD7-BEA0-22A53CF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465E-FA92-4AC0-BD63-F446D9F5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932C-A463-4223-9556-7C41A23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E701-44AB-472D-9915-96ECE876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F7A7-C530-4362-912D-983B7DBF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10A3-C792-4365-A4BA-24C4FB5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F0DFE-4878-47A4-88EB-FFB1C7B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7705-D77B-4350-9448-5504C5DB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8BE-F669-43DB-809A-639D034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EAEF-0733-4BBE-80D2-4B512E0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8D58-89A6-43DB-8770-09A64A7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2B60-EECE-4AC8-B379-6934A1FC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0D64-48F5-48F0-B9FA-320A6C31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47B8-FB74-4CFA-BC9A-7F4BEB64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213A1-EFDF-4EC5-A3E5-0B1824C4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4D249-C88C-4DF8-8263-610FF0D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5F4A8-EACD-47E8-81B8-45BA5C8D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3A177-2DE4-4577-BF36-016B9062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0B42-A6B6-42F4-B2F3-78D1BC8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FC7-87DF-400E-8A7E-49C3C0F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01DDA-DAA4-481E-8E24-43C1803D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70B8-8530-445C-AB33-0BC05C1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A392-2AF6-47C5-84CE-64DF37B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E2667-0F28-4FBA-A048-E50A00E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F4F80-C8B9-4CE1-96DE-0865943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7566C-1178-4179-A6FF-57431927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4D7B-1E77-40F1-9BB1-751F2415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0AB3E-A575-4C7E-9F07-B065C15D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43274-1273-4962-BD4B-5A1B298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AFE4A-7FA0-4051-A900-DD637E0A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F182-E339-4947-959C-578E1BE9F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B62-D15D-4DAA-B2BC-D0DC38A2B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056F-9B72-4A3D-91D3-E05986EE9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C56-B49E-410D-8F8C-2AB7DC2DD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52360" y="531720"/>
            <a:ext cx="8632800" cy="586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Basis-witvorm"/>
          <p:cNvPicPr/>
          <p:nvPr/>
        </p:nvPicPr>
        <p:blipFill>
          <a:blip r:embed="rId4"/>
          <a:stretch/>
        </p:blipFill>
        <p:spPr>
          <a:xfrm>
            <a:off x="3591000" y="3276720"/>
            <a:ext cx="52941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Logo-basistekstslide_ENG"/>
          <p:cNvPicPr/>
          <p:nvPr/>
        </p:nvPicPr>
        <p:blipFill>
          <a:blip r:embed="rId5"/>
          <a:stretch/>
        </p:blipFill>
        <p:spPr>
          <a:xfrm>
            <a:off x="247680" y="106200"/>
            <a:ext cx="1587600" cy="317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411-6916-4267-9AC5-3EA73E1DC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AFB4-7DF6-4A0C-914E-85E27AA5A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BBD-84ED-4BCA-A0A1-721C6C0061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ABB-B4E2-47B9-AD32-478D8F97D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9FB-3F14-4215-8ECA-5B97A518E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0E4D-586F-483F-A2B5-0C328C591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473-8843-4B2F-BA9C-114281B09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Vorm_basistekstslide"/>
          <p:cNvPicPr/>
          <p:nvPr/>
        </p:nvPicPr>
        <p:blipFill>
          <a:blip r:embed="rId2"/>
          <a:stretch/>
        </p:blipFill>
        <p:spPr>
          <a:xfrm>
            <a:off x="6724800" y="4692600"/>
            <a:ext cx="2419200" cy="21654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250920" y="531720"/>
            <a:ext cx="8632800" cy="59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Logo-basistekstslide3_ENG"/>
          <p:cNvPicPr/>
          <p:nvPr/>
        </p:nvPicPr>
        <p:blipFill>
          <a:blip r:embed="rId3"/>
          <a:stretch/>
        </p:blipFill>
        <p:spPr>
          <a:xfrm>
            <a:off x="247680" y="106200"/>
            <a:ext cx="1589040" cy="3175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063F-25FE-428B-8FBB-72C7014BE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OF VANILLA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72840" y="17002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declares policy to promote cash 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scientists suggest vanilla as cash c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gives incentives to farmers to plant vani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extension workers train farmers to plant vani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given inputs - seed, fertiliser and 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else did they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72840" y="17002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d the way questions were as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ed women and men separately because they have different roles and inter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not use questionnaires because women are illit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participatory research methods to provide conducive environment for free and frank discu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fi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9280" y="1628640"/>
            <a:ext cx="79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nilla crop is very labour-int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 own the crop and do the initial plan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of the household provide the labour for the intensive cultivation. No other labour is h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had to neglect their subsistence crops to man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 continued to cultivate their other market 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had to work harder and could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keep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 do the marketing and control the c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as the end resul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72840" y="1700280"/>
            <a:ext cx="77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could not manage all the work - there just was not enough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losing their subsitence crops and not getting the benefits of cash crop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sabotaging the crop by nipping the bud at the point of g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S TAKEN AND THE CONSEQU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72840" y="17002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gricultural extension stations try out vanilla cropp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ed field trials are carr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nsion workers then train far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rmers plant van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wo years vanilla output is less than targe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three years the output dro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0440" indent="-460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ID THEY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73200" y="1700280"/>
            <a:ext cx="785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al Research Instit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asked to look into the quality of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plant path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take more field t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ricultural Extension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ed to improve extension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timely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ise farmer particip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QUESTIONS DID THEY A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72840" y="17002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Research Instit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crops healt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rop management optim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pesticides and other material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icultural extension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es farmer do when there is trouble with cr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extension service adequ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82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OF THEIR INVESTIG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72840" y="1700280"/>
            <a:ext cx="74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problem was detected with crop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services not optimal but adequ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would like more inputs, especially loan subsi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ll the output decrea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672840" y="1700280"/>
            <a:ext cx="749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WENT WRO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ed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72840" y="170028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ome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Studies Department were doing a study of vanilla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vernment requested them to find out why vanilla output was decrea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ome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Studies Department set up an extensive e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72840" y="1700280"/>
            <a:ext cx="77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d the 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owns the lan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owns the cr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plan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rear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harv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does the marke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72840" y="17002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d who they as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ed vanilla growers but disaggregated by g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ed both women and men since they both work on the c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ed at the gender division of labour in production - i.e. who was doing what, what obligations did men have and women ha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5120" indent="-46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dsholder til sidefod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Amsterdam, The Netherlands    www.kit.n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BT</dc:creator>
  <dc:description/>
  <dc:language>en-US</dc:language>
  <cp:lastModifiedBy>IBT</cp:lastModifiedBy>
  <dcterms:modified xsi:type="dcterms:W3CDTF">2013-05-21T17:48:57Z</dcterms:modified>
  <cp:revision>136</cp:revision>
  <dc:subject/>
  <dc:title>PowerPoint Presentation</dc:title>
</cp:coreProperties>
</file>