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5F20-B083-4D7B-AA31-F13BAF918C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BFA-D69C-4F33-82C5-6D4F69DFF0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AE65-F4D2-4322-B5B4-95612940C4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FD10-677F-4560-B695-8AF4AFDC9B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8511-284B-4690-81EF-CDF628C404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16A5-4A85-4D70-8B17-983C8FB7AB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3596-E504-4077-97D0-1C89EFF2CD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25560" y="4638600"/>
            <a:ext cx="501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398-C279-44CE-8164-C935717A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C4D-AC9D-4F6F-8CF7-4B792E72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2DB-07BA-4109-A420-6ED253BA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0D5-6CD4-4882-8D3F-C913EDBE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87B-6DE5-43F0-8337-79B73D2F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739-E1D4-460D-A9BD-66967221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17E-CDBF-4E2B-AE3A-B3AE46F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FA3-FEC4-4590-9078-73F88EFD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EAD-D032-40B2-A896-67E70293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16B-4908-4A0F-AF35-AD06135C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FFD-6019-4A2B-88AF-6642F4A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FA5-EEBF-4899-82B7-827E647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8FF3-19C7-4729-92CE-196302E8E0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1908000" y="2276640"/>
            <a:ext cx="627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4040"/>
                </a:solidFill>
                <a:latin typeface="Calibri"/>
              </a:rPr>
              <a:t>Gender-Inclusiv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4040"/>
                </a:solidFill>
                <a:latin typeface="Calibri"/>
              </a:rPr>
              <a:t>Rights-Based Analy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468360" y="112536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404040"/>
                </a:solidFill>
                <a:latin typeface="Calibri"/>
              </a:rPr>
              <a:t>A GENDER-INCLUSIVE RIGHTS-BASED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404040"/>
                </a:solidFill>
                <a:latin typeface="Calibri"/>
              </a:rPr>
              <a:t>IN A NUT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124000" y="2205000"/>
            <a:ext cx="4826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Calibri"/>
              </a:rPr>
              <a:t>THE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Calibri"/>
              </a:rPr>
              <a:t>THE 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Calibri"/>
              </a:rPr>
              <a:t>THE 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4040"/>
                </a:solidFill>
                <a:latin typeface="Calibri"/>
              </a:rPr>
              <a:t>THE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755640" y="1844640"/>
            <a:ext cx="78487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Identify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Identify those most affected by the problem/rights vio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Identify whether men and women affected the same/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Assess whether different identities interact and impact on how individuals and groups experienc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Identify the  particular rights denied or vio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700360" y="981000"/>
            <a:ext cx="360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4040"/>
                </a:solidFill>
                <a:latin typeface="Calibri"/>
              </a:rPr>
              <a:t>THE W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900000" y="1700280"/>
            <a:ext cx="727236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Identify immediate and structural causes and barriers for problems/vio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Be sure to be alert to  legal, political, social and  cultural causes  i.e. not only economic and environ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Assess whether the causes are different for men and women or other identities (ethnicity, cast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719880" y="981000"/>
            <a:ext cx="2066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4040"/>
                </a:solidFill>
                <a:latin typeface="Calibri"/>
              </a:rPr>
              <a:t>THE 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68360" y="1844640"/>
            <a:ext cx="806436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Identify institutions (formal and informal) that have an impact on the proble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Identify their obligations, duties and responsibilities as per human right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ssess the reasons for their response or lack of response: is it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Arial"/>
              </a:rPr>
              <a:t>Norms/rules/law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Arial"/>
              </a:rPr>
              <a:t>Lack of influen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Arial"/>
              </a:rPr>
              <a:t>Lack of resourc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Arial"/>
              </a:rPr>
              <a:t>Lack of capacity and knowled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Arial"/>
              </a:rPr>
              <a:t>Lack of intere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203640" y="1052640"/>
            <a:ext cx="2344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04040"/>
                </a:solidFill>
                <a:latin typeface="Calibri"/>
              </a:rPr>
              <a:t>THE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1979640" y="907920"/>
            <a:ext cx="49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404040"/>
                </a:solidFill>
                <a:latin typeface="Calibri"/>
              </a:rPr>
              <a:t>THE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4360" y="2276640"/>
            <a:ext cx="7991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404040"/>
                </a:solidFill>
                <a:latin typeface="Calibri"/>
              </a:rPr>
              <a:t>Participation of rights-holders in the analysis and prioritisation of 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404040"/>
                </a:solidFill>
                <a:latin typeface="Calibri"/>
              </a:rPr>
              <a:t>Focus on</a:t>
            </a:r>
            <a:r>
              <a:rPr b="0" lang="da-DK" sz="2400" spc="-1" strike="noStrike">
                <a:solidFill>
                  <a:srgbClr val="40404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Calibri"/>
              </a:rPr>
              <a:t>Their meaningful participation and influence - not cerem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Calibri"/>
              </a:rPr>
              <a:t>Ensure participation and influence of the </a:t>
            </a:r>
            <a:r>
              <a:rPr b="0" lang="da-DK" sz="2400" spc="-1" strike="noStrike" u="sng">
                <a:solidFill>
                  <a:srgbClr val="404040"/>
                </a:solidFill>
                <a:uFillTx/>
                <a:latin typeface="Calibri"/>
              </a:rPr>
              <a:t>most vulnerable</a:t>
            </a:r>
            <a:r>
              <a:rPr b="0" lang="da-DK" sz="2400" spc="-1" strike="noStrike">
                <a:solidFill>
                  <a:srgbClr val="404040"/>
                </a:solidFill>
                <a:latin typeface="Calibri"/>
              </a:rPr>
              <a:t> men and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Calibri"/>
              </a:rPr>
              <a:t>Ensure that barriers to their participation are removed  (Separate groups, child care, transport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404040"/>
                </a:solidFill>
                <a:latin typeface="Calibri"/>
              </a:rPr>
              <a:t>Ensure real  access to information fo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554920" y="170028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>
                <a:solidFill>
                  <a:srgbClr val="404040"/>
                </a:solidFill>
                <a:latin typeface="Arial"/>
              </a:rPr>
              <a:t>PROCESS IS EQUALLY IMPORT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85840" y="1557000"/>
            <a:ext cx="85723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ug7jeffrey18312c"/>
          <p:cNvPicPr/>
          <p:nvPr/>
        </p:nvPicPr>
        <p:blipFill>
          <a:blip r:embed="rId1"/>
          <a:srcRect l="0" t="9758" r="0" b="22855"/>
          <a:stretch/>
        </p:blipFill>
        <p:spPr>
          <a:xfrm>
            <a:off x="0" y="-12708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Actalliance_Office"/>
          <p:cNvPicPr/>
          <p:nvPr/>
        </p:nvPicPr>
        <p:blipFill>
          <a:blip r:embed="rId2"/>
          <a:stretch/>
        </p:blipFill>
        <p:spPr>
          <a:xfrm>
            <a:off x="6227640" y="6165720"/>
            <a:ext cx="2664000" cy="398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85840" y="1557360"/>
            <a:ext cx="85723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835280" y="2421000"/>
            <a:ext cx="56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Questions &amp; Feedback welco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8:26:31Z</dcterms:created>
  <dc:creator>Sonali Fernando</dc:creator>
  <dc:description/>
  <dc:language>en-US</dc:language>
  <cp:lastModifiedBy>IBT</cp:lastModifiedBy>
  <dcterms:modified xsi:type="dcterms:W3CDTF">2013-06-16T19:51:56Z</dcterms:modified>
  <cp:revision>20</cp:revision>
  <dc:subject/>
  <dc:title>text</dc:title>
</cp:coreProperties>
</file>