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1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d610d"/>
                </a:solidFill>
                <a:latin typeface="Georgia"/>
              </a:rPr>
              <a:t>Click to move the slide</a:t>
            </a: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ftr" idx="1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 type="sldNum" idx="1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0153-AAB4-4063-8ACB-32DC82CD4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EAC6-7DFA-40A2-99E9-0E7E3BACF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925560" y="4638600"/>
            <a:ext cx="50180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79A0-3661-4A56-98A2-8CD0184F7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s administer the rules and respond to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organizations operate within different institutions…  for example, commercial enterprises operate primarily within the market (also affected by the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vil society organizations generally operate primarily within the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dsholder til dias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262D-37EF-48DC-9639-C93979BC1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DC06-537D-412D-83BB-4289A8732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7788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500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327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7320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2500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4327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7788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00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327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320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00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327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2500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327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7320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2500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4327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7788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500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327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7320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500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4327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7788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2500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327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320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2500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4327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788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500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327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320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500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327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7788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500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27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7320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500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4327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7788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500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327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7320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500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4327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7788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788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500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327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7320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2500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4327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7788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500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327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7320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2500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4327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7788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500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327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7320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2500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4327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7788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73200" y="3849840"/>
            <a:ext cx="5403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441960" y="170028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7320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441960" y="3849840"/>
            <a:ext cx="26366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500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327560" y="170028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7320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2500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4327560" y="3849840"/>
            <a:ext cx="1739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Vorm_basistekstslide"/>
          <p:cNvPicPr/>
          <p:nvPr/>
        </p:nvPicPr>
        <p:blipFill>
          <a:blip r:embed="rId2"/>
          <a:stretch/>
        </p:blipFill>
        <p:spPr>
          <a:xfrm>
            <a:off x="6724800" y="4692600"/>
            <a:ext cx="2419200" cy="21654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250920" y="531720"/>
            <a:ext cx="8632800" cy="59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d610d"/>
                </a:solidFill>
                <a:latin typeface="Georgia"/>
              </a:rPr>
              <a:t>Click to edit the title text format</a:t>
            </a: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50920" y="6537240"/>
            <a:ext cx="5844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4" descr="Logo-basistekstslide3_ENG"/>
          <p:cNvPicPr/>
          <p:nvPr/>
        </p:nvPicPr>
        <p:blipFill>
          <a:blip r:embed="rId3"/>
          <a:stretch/>
        </p:blipFill>
        <p:spPr>
          <a:xfrm>
            <a:off x="247680" y="106200"/>
            <a:ext cx="158904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d610d"/>
                </a:solidFill>
                <a:latin typeface="Georgia"/>
              </a:rPr>
              <a:t>Click to edit the title text format</a:t>
            </a: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ftr" idx="9"/>
          </p:nvPr>
        </p:nvSpPr>
        <p:spPr>
          <a:xfrm>
            <a:off x="250920" y="6537240"/>
            <a:ext cx="5844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d610d"/>
                </a:solidFill>
                <a:latin typeface="Georgia"/>
              </a:rPr>
              <a:t>Click to edit the title text format</a:t>
            </a: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ftr" idx="10"/>
          </p:nvPr>
        </p:nvSpPr>
        <p:spPr>
          <a:xfrm>
            <a:off x="250920" y="6537240"/>
            <a:ext cx="5844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d610d"/>
                </a:solidFill>
                <a:latin typeface="Georgia"/>
              </a:rPr>
              <a:t>Click to edit the title text format</a:t>
            </a: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1"/>
          </p:nvPr>
        </p:nvSpPr>
        <p:spPr>
          <a:xfrm>
            <a:off x="250920" y="6537240"/>
            <a:ext cx="5844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252360" y="531720"/>
            <a:ext cx="8632800" cy="586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Basis-witvorm"/>
          <p:cNvPicPr/>
          <p:nvPr/>
        </p:nvPicPr>
        <p:blipFill>
          <a:blip r:embed="rId2"/>
          <a:stretch/>
        </p:blipFill>
        <p:spPr>
          <a:xfrm>
            <a:off x="3591000" y="3276720"/>
            <a:ext cx="5294160" cy="312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Logo-basistekstslide_ENG"/>
          <p:cNvPicPr/>
          <p:nvPr/>
        </p:nvPicPr>
        <p:blipFill>
          <a:blip r:embed="rId3"/>
          <a:stretch/>
        </p:blipFill>
        <p:spPr>
          <a:xfrm>
            <a:off x="247680" y="106200"/>
            <a:ext cx="1587600" cy="317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d610d"/>
                </a:solidFill>
                <a:latin typeface="Georgia"/>
              </a:rPr>
              <a:t>Click to edit the title text format</a:t>
            </a: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d610d"/>
                </a:solidFill>
                <a:latin typeface="Georgia"/>
              </a:rPr>
              <a:t>Click to edit the title text format</a:t>
            </a: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2"/>
          </p:nvPr>
        </p:nvSpPr>
        <p:spPr>
          <a:xfrm>
            <a:off x="250920" y="6537240"/>
            <a:ext cx="5844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d610d"/>
                </a:solidFill>
                <a:latin typeface="Georgia"/>
              </a:rPr>
              <a:t>Click to edit the title text format</a:t>
            </a: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3"/>
          </p:nvPr>
        </p:nvSpPr>
        <p:spPr>
          <a:xfrm>
            <a:off x="250920" y="6537240"/>
            <a:ext cx="5844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d610d"/>
                </a:solidFill>
                <a:latin typeface="Georgia"/>
              </a:rPr>
              <a:t>Click to edit the title text format</a:t>
            </a: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4"/>
          </p:nvPr>
        </p:nvSpPr>
        <p:spPr>
          <a:xfrm>
            <a:off x="250920" y="6537240"/>
            <a:ext cx="5844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d610d"/>
                </a:solidFill>
                <a:latin typeface="Georgia"/>
              </a:rPr>
              <a:t>Click to edit the title text format</a:t>
            </a: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5"/>
          </p:nvPr>
        </p:nvSpPr>
        <p:spPr>
          <a:xfrm>
            <a:off x="250920" y="6537240"/>
            <a:ext cx="5844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d610d"/>
                </a:solidFill>
                <a:latin typeface="Georgia"/>
              </a:rPr>
              <a:t>Click to edit the title text format</a:t>
            </a: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6"/>
          </p:nvPr>
        </p:nvSpPr>
        <p:spPr>
          <a:xfrm>
            <a:off x="250920" y="6537240"/>
            <a:ext cx="5844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d610d"/>
                </a:solidFill>
                <a:latin typeface="Georgia"/>
              </a:rPr>
              <a:t>Click to edit the title text format</a:t>
            </a: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ftr" idx="7"/>
          </p:nvPr>
        </p:nvSpPr>
        <p:spPr>
          <a:xfrm>
            <a:off x="250920" y="6537240"/>
            <a:ext cx="5844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d610d"/>
                </a:solidFill>
                <a:latin typeface="Georgia"/>
              </a:rPr>
              <a:t>Click to edit the title text format</a:t>
            </a: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3200" y="1700280"/>
            <a:ext cx="540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buClr>
                <a:srgbClr val="fa7d03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buClr>
                <a:srgbClr val="000000"/>
              </a:buClr>
              <a:buFont typeface="Times"/>
              <a:buChar char="•"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8"/>
          </p:nvPr>
        </p:nvSpPr>
        <p:spPr>
          <a:xfrm>
            <a:off x="250920" y="6537240"/>
            <a:ext cx="5844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7772400" cy="18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04040"/>
                </a:solidFill>
                <a:latin typeface="Calibri"/>
              </a:rPr>
              <a:t>Gender, Rights and Organisational Development</a:t>
            </a:r>
            <a:endParaRPr b="0" i="1" lang="en-US" sz="4400" spc="-1" strike="noStrike">
              <a:solidFill>
                <a:srgbClr val="ad610d"/>
              </a:solidFill>
              <a:latin typeface="Georgia"/>
            </a:endParaRPr>
          </a:p>
        </p:txBody>
      </p:sp>
      <p:pic>
        <p:nvPicPr>
          <p:cNvPr id="481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6072120"/>
            <a:ext cx="9144000" cy="14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404040"/>
                </a:solidFill>
                <a:latin typeface="Calibri"/>
              </a:rPr>
              <a:t>Organisational assessments</a:t>
            </a: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00000" y="2349000"/>
            <a:ext cx="75708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Need for organisations to critically assess internal integration of gender and rights concer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Do we walk our talk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elf assess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Gender and rights aud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0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4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46288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3" name="Picture 4" descr="ug7jeffrey18312c"/>
          <p:cNvPicPr/>
          <p:nvPr/>
        </p:nvPicPr>
        <p:blipFill>
          <a:blip r:embed="rId1"/>
          <a:srcRect l="0" t="9758" r="0" b="22855"/>
          <a:stretch/>
        </p:blipFill>
        <p:spPr>
          <a:xfrm>
            <a:off x="0" y="-12708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Actalliance_Office"/>
          <p:cNvPicPr/>
          <p:nvPr/>
        </p:nvPicPr>
        <p:blipFill>
          <a:blip r:embed="rId2"/>
          <a:stretch/>
        </p:blipFill>
        <p:spPr>
          <a:xfrm>
            <a:off x="6227640" y="6165720"/>
            <a:ext cx="2664000" cy="398520"/>
          </a:xfrm>
          <a:prstGeom prst="rect">
            <a:avLst/>
          </a:prstGeom>
          <a:ln w="0">
            <a:noFill/>
          </a:ln>
        </p:spPr>
      </p:pic>
      <p:sp>
        <p:nvSpPr>
          <p:cNvPr id="525" name="TextBox 4"/>
          <p:cNvSpPr/>
          <p:nvPr/>
        </p:nvSpPr>
        <p:spPr>
          <a:xfrm>
            <a:off x="1116000" y="2565360"/>
            <a:ext cx="684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404040"/>
                </a:solidFill>
                <a:latin typeface="Arial"/>
              </a:rPr>
              <a:t>Thank you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404040"/>
                </a:solidFill>
                <a:latin typeface="Arial"/>
              </a:rPr>
              <a:t>Questions &amp; Feedback welco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04040"/>
                </a:solidFill>
                <a:latin typeface="Calibri"/>
              </a:rPr>
              <a:t>Why do organisations matter?</a:t>
            </a: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78644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Organisations reflect the social relations that are dominant within soci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Organisations are one of the means through which gender and other socially constructed differences and inequalities are (re)produc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Organisations themselves are gendered and might re-produce gender and other social imbala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6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4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0" y="6072120"/>
            <a:ext cx="9144000" cy="14292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04040"/>
                </a:solidFill>
                <a:latin typeface="Calibri"/>
              </a:rPr>
              <a:t>Organisations</a:t>
            </a: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868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alibri"/>
              </a:rPr>
              <a:t>Organisations are formed within institutions through whic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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alibri"/>
              </a:rPr>
              <a:t>  </a:t>
            </a:r>
            <a:r>
              <a:rPr b="0" lang="en-GB" sz="2400" spc="-1" strike="noStrike">
                <a:solidFill>
                  <a:srgbClr val="262626"/>
                </a:solidFill>
                <a:latin typeface="Calibri"/>
              </a:rPr>
              <a:t>Formal and informal rules are appl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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alibri"/>
              </a:rPr>
              <a:t>  </a:t>
            </a:r>
            <a:r>
              <a:rPr b="0" lang="en-GB" sz="2400" spc="-1" strike="noStrike">
                <a:solidFill>
                  <a:srgbClr val="262626"/>
                </a:solidFill>
                <a:latin typeface="Calibri"/>
              </a:rPr>
              <a:t>Societies are regulated and coordinat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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alibri"/>
              </a:rPr>
              <a:t>  </a:t>
            </a:r>
            <a:r>
              <a:rPr b="0" lang="en-GB" sz="2400" spc="-1" strike="noStrike">
                <a:solidFill>
                  <a:srgbClr val="262626"/>
                </a:solidFill>
                <a:latin typeface="Calibri"/>
              </a:rPr>
              <a:t>Resources are distribu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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alibri"/>
              </a:rPr>
              <a:t>  </a:t>
            </a:r>
            <a:r>
              <a:rPr b="0" lang="en-GB" sz="2400" spc="-1" strike="noStrike">
                <a:solidFill>
                  <a:srgbClr val="262626"/>
                </a:solidFill>
                <a:latin typeface="Calibri"/>
              </a:rPr>
              <a:t>Cultural systems are validated and reproduc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RGANISA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DMINISTER THE RULES AND RESPOND TO THE NEEDS OF INSTIT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1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4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libri"/>
              </a:rPr>
              <a:t>Dimensions of change</a:t>
            </a: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2200" y="1844280"/>
            <a:ext cx="74898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buClr>
                <a:srgbClr val="404040"/>
              </a:buClr>
              <a:buFont typeface="Wingdings" charset="2"/>
              <a:buChar char="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Policy shift to put rights-based approach and gender equality firmly on the agen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buClr>
                <a:srgbClr val="404040"/>
              </a:buClr>
              <a:buFont typeface="Wingdings" charset="2"/>
              <a:buChar char="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Institutionalising gender and rights compet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buClr>
                <a:srgbClr val="404040"/>
              </a:buClr>
              <a:buFont typeface="Wingdings" charset="2"/>
              <a:buChar char="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hanging organisational rules to provide equal incentives, and opportunities for women and men and for different groups of women and 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buClr>
                <a:srgbClr val="404040"/>
              </a:buClr>
              <a:buFont typeface="Wingdings" charset="2"/>
              <a:buChar char="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Building cultural change and shared meaning of equitable re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buClr>
                <a:srgbClr val="404040"/>
              </a:buClr>
              <a:buFont typeface="Wingdings" charset="2"/>
              <a:buChar char="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Promoting equality and diversity externally in field programmes, projects and relations with partner organis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685800" y="419112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6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04040"/>
                </a:solidFill>
                <a:latin typeface="Calibri"/>
              </a:rPr>
              <a:t>Essential to achieve policy shift</a:t>
            </a:r>
            <a:endParaRPr b="0" i="1" lang="en-US" sz="38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73200" y="1628280"/>
            <a:ext cx="75708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404040"/>
              </a:buClr>
              <a:buFont typeface="Wingdings" charset="2"/>
              <a:buChar char="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Ensure commitment for human rights based development and gender equality goals by senior man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404040"/>
              </a:buClr>
              <a:buFont typeface="Wingdings" charset="2"/>
              <a:buChar char="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Include in vision and mission statements and other strategic documents of the organ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404040"/>
              </a:buClr>
              <a:buFont typeface="Wingdings" charset="2"/>
              <a:buChar char="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Ensure the needed human and financial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0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4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3519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Gender-Inclusive Rights Competence</a:t>
            </a:r>
            <a:endParaRPr b="0" i="1" lang="en-US" sz="32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858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Gender and rights infrastructure is  the structural set-up in the organization that gives a committee/ unit/persons responsibility and position (time/budget) for focusing on gender-inclusive rights outc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t up to broad based ?responsibility and commitment for promoting gender-inclusive rights based commitment internally and make a plan to build up compe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Calibri"/>
              </a:rPr>
              <a:t>Development of tools and instruments to ensure gender- inclusive human rights-based development into programmes and all phases of programm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tructural shift has to be accompanied by a political shi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4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4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6559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libri"/>
              </a:rPr>
              <a:t>Changing rules</a:t>
            </a: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6436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Gender-inclusive rights-aware organisational change means changing the 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rules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and introducing new measures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ake the workplace habitable for men and women with all kinds of id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Recruit more women and more people from minority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Recognise and respect the value of divers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Provide for women’s and men’s reproductive ro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ake the workplace safe for 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Promote women and minority groups to leadership and decision-making ro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4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03280" y="907920"/>
            <a:ext cx="59832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libri"/>
              </a:rPr>
              <a:t>Cultural Change</a:t>
            </a:r>
            <a:endParaRPr b="0" i="1" lang="en-US" sz="36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78680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hanging rules can be done administrativel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ut abiding by the new rules that provide incentives to and opportunities for women and people from minority groups on a routine basis requires a cultural change in the organization, namel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e values and attitudes of the people working th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hared understanding of gender equality and righ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illingness to change exclusionary practi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2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4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Encouraging a Gender and Rights Culture</a:t>
            </a:r>
            <a:endParaRPr b="0" i="1" lang="en-US" sz="3200" spc="-1" strike="noStrike">
              <a:solidFill>
                <a:srgbClr val="ad610d"/>
              </a:solidFill>
              <a:latin typeface="Georg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793116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Fostering cultural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reate space within the organization such as training and learning forums where people feel safe to express opinions, interact with colleagues and hear different view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Calibri"/>
              </a:rPr>
              <a:t>Construction of ‘voice’ for those who want change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399960"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Provide staff with space to organize and deb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399960"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Develop leadership and focus attention on issues of power and inequ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399960"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xternal networking that facilitates knowledge sharing and campaigning on social justice and gender equ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6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4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ranny Parren</dc:creator>
  <dc:description/>
  <dc:language>en-US</dc:language>
  <cp:lastModifiedBy>IBT</cp:lastModifiedBy>
  <dcterms:modified xsi:type="dcterms:W3CDTF">2013-06-16T19:28:17Z</dcterms:modified>
  <cp:revision>117</cp:revision>
  <dc:subject/>
  <dc:title>PowerPoint Presentation</dc:title>
</cp:coreProperties>
</file>