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AEA8-89C7-41FC-ADB1-7BE65C2497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E045-A9D1-4759-916B-368C48E7F1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FA9A-0AC2-40DC-953E-7F7F5A6766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56A5-25E0-41EC-AF39-F68BF7A60B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89CC-6A65-423E-82AE-53F40A4B7D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DF31-F11C-4191-B6BF-27F3855A01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925560" y="4638600"/>
            <a:ext cx="50180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A59C-C12B-4AD5-87E5-BD3AC9A7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73C-5116-4C17-AE2E-F4BD3691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836-D772-47EE-8C8F-B07A8FA8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47EF-6EAE-406C-A073-C764EB80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09A-D68F-432A-8011-7A10ACD8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18B-69B4-4F08-B2C9-E6AA2DBB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F725-310F-4D5A-993F-E6B0EE5C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565-C3AA-42C3-8993-70480A0E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DE4-85A7-41A5-A793-92A06903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1C1-FE78-4011-8B3F-F1251E50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424-DB6E-4B04-81BB-63A06BEA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4BF-4D48-4D9D-968F-F204DFB5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7EF3-ED6D-421E-B8FA-DA84808D1B2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404040"/>
                </a:solidFill>
                <a:latin typeface="Calibri"/>
              </a:rPr>
              <a:t>Understanding Resistan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072120"/>
            <a:ext cx="9144000" cy="14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0" y="6072120"/>
            <a:ext cx="9144000" cy="14292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1042920" y="907920"/>
            <a:ext cx="66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04040"/>
                </a:solidFill>
                <a:latin typeface="Calibri"/>
              </a:rPr>
              <a:t>How do we explain..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900000" y="2276640"/>
            <a:ext cx="720108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2440" indent="-514440">
              <a:spcBef>
                <a:spcPts val="799"/>
              </a:spcBef>
              <a:buClr>
                <a:srgbClr val="404040"/>
              </a:buClr>
              <a:buFont typeface="Wingdings" charset="2"/>
              <a:buChar char="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Gaps between rights on paper and rights on the gr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2440" indent="-514440">
              <a:spcBef>
                <a:spcPts val="799"/>
              </a:spcBef>
              <a:buClr>
                <a:srgbClr val="404040"/>
              </a:buClr>
              <a:buFont typeface="Wingdings" charset="2"/>
              <a:buChar char="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Gaps between theory and our own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2440" indent="-514440">
              <a:spcBef>
                <a:spcPts val="799"/>
              </a:spcBef>
              <a:buClr>
                <a:srgbClr val="404040"/>
              </a:buClr>
              <a:buFont typeface="Wingdings" charset="2"/>
              <a:buChar char="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Resistance to rights at multiple lev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2440" indent="-514440">
              <a:spcBef>
                <a:spcPts val="799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2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468360" y="2205000"/>
            <a:ext cx="824400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9120" indent="-514440"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Perception of empowerment as a “zero-sum gam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4440"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Perception of gender as a “Western concep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4440"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Interpretation of spirituality/religion as a b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4440"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Gender and human rights in “different boxes” different language, method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4440"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Political and social change agenda is prioritised over gender,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4440"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Shrinking political space for rights discu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4440"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1042920" y="907920"/>
            <a:ext cx="687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4040"/>
                </a:solidFill>
                <a:latin typeface="Calibri"/>
              </a:rPr>
              <a:t>Where is resistance coming fr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2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1042920" y="907920"/>
            <a:ext cx="687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4040"/>
                </a:solidFill>
                <a:latin typeface="Calibri"/>
              </a:rPr>
              <a:t>Where is resistance coming fr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755640" y="2133720"/>
            <a:ext cx="7777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Gender seen as a ‘women's thing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Strong cultural aspect – ‘not in our culture...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Cannot question cultural n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Human rights seen through a legal framework, gender is ‘softer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Gender seen as not relevant to developed countries – ‘is no longer an issue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Still a mechanical approach, buzzwords – ‘box ticking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2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1042920" y="907920"/>
            <a:ext cx="687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4040"/>
                </a:solidFill>
                <a:latin typeface="Calibri"/>
              </a:rPr>
              <a:t>Where is resistance coming fr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900000" y="2274840"/>
            <a:ext cx="7201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Gender seen as imposed by don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Good indicators hard to find for both rights and g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Too much talk of abstracts, practice is lacking (making opera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Hard to find ‘gender-inclusive’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Poverty is a barrier – can't do gender on an empty stom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4628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ug7jeffrey18312c"/>
          <p:cNvPicPr/>
          <p:nvPr/>
        </p:nvPicPr>
        <p:blipFill>
          <a:blip r:embed="rId1"/>
          <a:srcRect l="0" t="9758" r="0" b="22855"/>
          <a:stretch/>
        </p:blipFill>
        <p:spPr>
          <a:xfrm>
            <a:off x="0" y="-12708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Actalliance_Office"/>
          <p:cNvPicPr/>
          <p:nvPr/>
        </p:nvPicPr>
        <p:blipFill>
          <a:blip r:embed="rId2"/>
          <a:stretch/>
        </p:blipFill>
        <p:spPr>
          <a:xfrm>
            <a:off x="6227640" y="6165720"/>
            <a:ext cx="2664000" cy="39852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116000" y="2565360"/>
            <a:ext cx="684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GB" sz="4800" spc="-1" strike="noStrike">
                <a:solidFill>
                  <a:srgbClr val="404040"/>
                </a:solidFill>
                <a:latin typeface="Calibri"/>
              </a:rPr>
              <a:t>Thank you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Calibri"/>
              </a:rPr>
              <a:t>Questions &amp; Feedback welcome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08:26:31Z</dcterms:created>
  <dc:creator>Sonali Fernando</dc:creator>
  <dc:description/>
  <dc:language>en-US</dc:language>
  <cp:lastModifiedBy>IBT</cp:lastModifiedBy>
  <dcterms:modified xsi:type="dcterms:W3CDTF">2013-06-16T21:30:11Z</dcterms:modified>
  <cp:revision>15</cp:revision>
  <dc:subject/>
  <dc:title>text</dc:title>
</cp:coreProperties>
</file>